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56117"/>
        <c:axId val="27967517"/>
      </c:barChart>
      <c:catAx>
        <c:axId val="24356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67517"/>
        <c:crosses val="autoZero"/>
        <c:auto val="1"/>
        <c:lblAlgn val="ctr"/>
        <c:lblOffset val="100"/>
        <c:noMultiLvlLbl val="0"/>
      </c:catAx>
      <c:valAx>
        <c:axId val="27967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56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99F-5F94-460C-B6C4-23CFC97A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7E9-2B36-42A1-AFFA-D1052B80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ECB-D45A-49BE-AC3F-8EC970E6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D5F-8488-426E-9096-22F82387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9B0-277B-410C-A679-D5325163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F8F-1146-42C5-94A1-BC515C92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B98-B35A-4DBC-81BA-FA5C40C5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FA3-779C-4768-97D8-9A19EA16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F96-1802-4191-B305-109C5ECF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0E2-3EF0-4275-8705-1F0415AA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F77-005B-45C7-A10F-4D1FAE15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645-A583-456A-9981-244F1E2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96654-99F3-418E-88C0-AF88BBC5FD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