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15552"/>
        <c:axId val="33020878"/>
      </c:barChart>
      <c:catAx>
        <c:axId val="97515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20878"/>
        <c:crosses val="autoZero"/>
        <c:auto val="1"/>
        <c:lblAlgn val="ctr"/>
        <c:lblOffset val="100"/>
        <c:noMultiLvlLbl val="0"/>
      </c:catAx>
      <c:valAx>
        <c:axId val="33020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15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DD7-26A0-4A2E-9F5B-CC7C2339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89E-CC37-4B9E-A935-A73AA91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64B-5093-4984-AD46-7BD317D2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7D5-4886-43E7-BD8C-8441F2A0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32B-0841-471A-94E6-2D542320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185-1625-464B-9D06-ADD4A00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F8F-465E-497F-BE75-EA9011C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776-B851-4D59-9AE2-F359CBC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8F6-E803-4D56-BA52-22F26AA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062-A0BD-47D1-B8E6-2626131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CE3-A0A5-4315-BDC1-6622757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24A-24B2-4592-A13D-96B2927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3A7E-9786-4A4F-8A75-4BF0D9762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